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92904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6352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92904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F5E890B-CB40-4513-97BD-12105D99D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o implement EDI using CrossWorlds TPI/EDI DH but it was cumbersome beca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ransaction logging from the package (though TPI will log the raw messa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997 generation for inbound messages. Must code this by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 DH is not EDI specification aware. Must build the structure of the messages, the business objects, using SpecBui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validation of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BOs, one for each segment. Lots of Maps one for each segment. A very cluttered ICS. Makes management diffic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Hub and Spok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adaptor (adap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layer in the 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e GBO and being able to send the same data to say the MES as well as the ERP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the same inte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Hub and Spok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adaptor (adap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layer in the 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e GBO and being able to send the same data to say the MES as well as the ERP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the same inte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work of the EDI Protocol collab is now done (much better) in the WDI 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Q Series 5.2 running on the WBI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Q Series 5.3 running on the WDI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ue naming convention is from the perspective of WDI. So EDI_IN is EDI message inbound to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B814E-D525-4570-B0DD-432A9DFB9F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9D3EC-517A-4D41-B616-812D35CCA1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1C856-D5D2-471A-90A4-A893C5222E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C678B-9DC1-4A26-B86A-4A88D5C98F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EAF67-1E8A-4996-93D5-47192FC3A9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D680C-6B35-4532-B703-80607776D1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348C0-00C0-4D1A-90E7-1AAFA816F8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18DEA-09F8-4E44-B508-6312166C24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E4CD9-4775-4CDA-BBB1-C0DB7581C6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070A6-F661-4A66-BD33-5C240E67EA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F59F5-236E-45AE-A0A2-6A09C6C380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03420-48A6-4E6E-A5EE-AFD944FAF5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ase Study: Implementing WDI with WBI at Quantu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  <p:sp>
        <p:nvSpPr>
          <p:cNvPr id="29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CDB2-331C-484A-BE4E-8B6832D2025F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87360" y="2084040"/>
            <a:ext cx="6548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Study: Integrating WDI wi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BI at Quant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ion</a:t>
            </a:r>
            <a:br>
              <a:rPr sz="2000"/>
            </a:br>
            <a:br>
              <a:rPr sz="20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rk Lutz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Hal Render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311328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Hardwa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Development, Stage and Production enviro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Production and Stage environmen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nvironment is a Veritas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Sun E4500 nodes in each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node has 8 processors, 4 gigabytes of physical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Development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Sun E4500 with 4 processors and 4 gigabytes of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Production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Compaq DL360s with 1.2 Ghz processor and 1 gigabyte of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Development and Stage environments share the same hardware as 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– Software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Server – WDI 3.2 SP6 for Windows 2000, standard set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Server – ICS 4.1.0.2 using Oracle 8.1.7 for repository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– Version 5.2 on the WBI side and 5.3 on the WDI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Application Integration – Various WBI adap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s Oracle Applications, Vantive, Clarify, and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VAN Integration – Custom Perl scripts to encrypt/decrypt messages  and transfer them to/from the V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s used because of the need to route messages between legacy applications, TPI, and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261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265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nctional Allocation in the Architecture - W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ing and logging reception of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ing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ing/sending Functional Acknowledg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EDI messages to XM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neric business obj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GBO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XML GBO’s to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ing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ing/logging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ging receipt of Functional Acknowledgement in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 Separate EDI concerns from Business Process conc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nctional Allocation in the Architecture - WB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received data, possibly through look-ups to enterpris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-in or modify data 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XML GBO’s 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pplication-specific business obj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ASBO’s) and update back-end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rt EDI data to human-readable form for notification or archi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ct triggering events, create ASBO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ASBO’s to XML GBO’s for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data in GBO’s, filling-in or modifying as needed through look-ups to enterpris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282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286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- In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43120" y="19303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20920" y="197316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62560" y="203364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78840" y="24829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6684840" y="3506760"/>
            <a:ext cx="1811160" cy="914400"/>
            <a:chOff x="6684840" y="3506760"/>
            <a:chExt cx="1811160" cy="914400"/>
          </a:xfrm>
        </p:grpSpPr>
        <p:sp>
          <p:nvSpPr>
            <p:cNvPr id="303" name=""/>
            <p:cNvSpPr/>
            <p:nvPr/>
          </p:nvSpPr>
          <p:spPr>
            <a:xfrm>
              <a:off x="6684840" y="350676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32720" y="3517920"/>
              <a:ext cx="86328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348160" y="2776680"/>
            <a:ext cx="863640" cy="1996560"/>
            <a:chOff x="5348160" y="2776680"/>
            <a:chExt cx="863640" cy="1996560"/>
          </a:xfrm>
        </p:grpSpPr>
        <p:sp>
          <p:nvSpPr>
            <p:cNvPr id="306" name=""/>
            <p:cNvSpPr/>
            <p:nvPr/>
          </p:nvSpPr>
          <p:spPr>
            <a:xfrm>
              <a:off x="5348160" y="387000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48160" y="2776680"/>
              <a:ext cx="863640" cy="90288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395520" y="2801880"/>
            <a:ext cx="1352520" cy="2049480"/>
            <a:chOff x="3395520" y="2801880"/>
            <a:chExt cx="1352520" cy="2049480"/>
          </a:xfrm>
        </p:grpSpPr>
        <p:sp>
          <p:nvSpPr>
            <p:cNvPr id="309" name=""/>
            <p:cNvSpPr/>
            <p:nvPr/>
          </p:nvSpPr>
          <p:spPr>
            <a:xfrm>
              <a:off x="3884400" y="394812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395520" y="28018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841320" y="3032280"/>
            <a:ext cx="2643120" cy="1938240"/>
            <a:chOff x="841320" y="3032280"/>
            <a:chExt cx="2643120" cy="1938240"/>
          </a:xfrm>
        </p:grpSpPr>
        <p:sp>
          <p:nvSpPr>
            <p:cNvPr id="312" name=""/>
            <p:cNvSpPr/>
            <p:nvPr/>
          </p:nvSpPr>
          <p:spPr>
            <a:xfrm>
              <a:off x="841320" y="30322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20800" y="40672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B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8" dur="1" fill="hold"/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– In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 downloads EDI messages from VAN and sends them to W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maps EDI to XML GBO (Generic Business Objec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sends GBO to WBI via MQ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MQSeries adaptor picks up GBO and sends to subscribing collaborations (executable business processes) on WB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ollaboration validates and fills in data as needed, and sends GBO to destination ada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s map GBO to appropriate ASBO (Application-Specific Business 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s send ASBO to destination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317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321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- Out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90720" y="274320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00400" y="281952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34120" y="281952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086600" y="251460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8098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44956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4760" y="39481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20800" y="40672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0" dur="1" fill="hold"/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– Out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BI adaptor detects triggering event, possibly via a bridge, and creates an ASBO from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 maps ASBO to GBO and sends to subscribing collaborations on WB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ollaboration validates and fills in data as needed, and sends GBO to destination adaptors, i.e. WDI MQSeries ada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picks up GBO, maps it to EDI, and queues it for trans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 picks up EDI message and sends it to the V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- Iterativ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s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-level requirements gath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 Guidelines for involved messages ac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-level Use Case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&amp; Desig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rossWorlds Integration Architecture Diagra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CIAD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-Level Use Case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Cases and CIAD reviewed, revised 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-Level data requirements verifi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o We Are and What We Do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um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leader in data protection products and services, and the world's largest supplier of computer tape dr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include HP, Dell, Hitachi Data Systems, IBM, and Sun Micro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than 30 domestic and 35 international distrib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 Lutze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rk.lutze@quantu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. Hal Render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al.render@quantu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in the eBusiness group at Quantum and have two du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nterprise Application 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A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siness-to-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B2B) integration, primarily using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0" y="457200"/>
          <a:ext cx="8999640" cy="56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8999640" cy="56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objects (including XML Document Type Definitions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ridg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data translation scripts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and WBI maps and End-to-End Mapping Document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collaboration templates and collaboration objects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adaptors created/config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dges, maps, collaborations, and adaptors unit-te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to-End Integration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Acceptance Testing (UA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bridges and WBI/WDI code deployed to production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on configuration of bridges, adaptors, and collaboration 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components activated and supporting jobs schedu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loyment monito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Operations Suppor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bridges and WBI adaptors flag connection or data err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WBI ICS flags process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s monitor system logs and some system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r VAN monitors problems with EDI messages and transmi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s and WBI components generate notification emails to Quantum EDI Administrators when they detect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Operations Support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suspends processing failures in the ICS as “failed flow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BI administrator troubleshoots the probl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tools allow WBI administrators to browse failed flows, read errors messages, look at the state of in-process business objects, make code changes, and restart or discard the failed flow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are usually corrected and the affected flows are resta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asionally flows are discarded and the messages are corrected and resubmitted from the sourc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Lessons Learned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stributed system has pros and c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a good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use existing work whenever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 Message Form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Languages (Java, XML, Per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Artifacts (Processes, Component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new artifacts to extend or fill gaps in existing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) Application bridges, Formatted Data Hand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I to the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a single gateway to the outside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a general XML Gateway to our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ing towards XML as the standard interface data format for enterprise application integ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RosettaNet or other standard XML B2B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ing towards XML as the standard interface data format for inter-enterprise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a Quantum EDI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users/customers with intranet/extranet access to EDI system status and transaction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ow We Came To Use WDI/WBI – Part 1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53468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: Chose CrossWorlds Software for EAI and B2B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RosettaNet pilots involving WebMethods, Viacore, and later Cyclone Commerce to connect directly to trad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initial production EAI implem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1-2: Migration of EDI legacy infrastructure to CrossWor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ed corporate EDI responsibilities, and found that our legacy EDI translator (AMTrix) was end-of-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lt CrossWorlds with it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rading Partner Interchan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TPI) and EDI Data-handler components looked promising for EDI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CrossWorlds to implement EDI 850, 820, 823, 810 and other EAI and B2B implementations, including support for major ERP 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d various issues, and came to the conclusion that CrossWorlds by itself is not an ideal EDI s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AI – Hub and Spoke Architecture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149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153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696680" y="1865880"/>
            <a:ext cx="2233080" cy="1624320"/>
            <a:chOff x="1696680" y="1865880"/>
            <a:chExt cx="2233080" cy="1624320"/>
          </a:xfrm>
        </p:grpSpPr>
        <p:sp>
          <p:nvSpPr>
            <p:cNvPr id="157" name=""/>
            <p:cNvSpPr/>
            <p:nvPr/>
          </p:nvSpPr>
          <p:spPr>
            <a:xfrm rot="17983200">
              <a:off x="2252520" y="2309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7983200">
              <a:off x="1888920" y="198756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7983200">
              <a:off x="3177360" y="2562120"/>
              <a:ext cx="430920" cy="990720"/>
            </a:xfrm>
            <a:prstGeom prst="upDownArrow">
              <a:avLst>
                <a:gd name="adj1" fmla="val 50000"/>
                <a:gd name="adj2" fmla="val 45769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161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165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169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ossWorlds with TPI and EDI Data Handler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175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179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 rot="17983200">
            <a:off x="2251800" y="2308680"/>
            <a:ext cx="811080" cy="685800"/>
          </a:xfrm>
          <a:prstGeom prst="diamond">
            <a:avLst/>
          </a:prstGeom>
          <a:solidFill>
            <a:srgbClr val="2db6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7983200">
            <a:off x="1888200" y="1986120"/>
            <a:ext cx="811080" cy="9144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P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7983200">
            <a:off x="3177360" y="2561040"/>
            <a:ext cx="430200" cy="990360"/>
          </a:xfrm>
          <a:prstGeom prst="upDownArrow">
            <a:avLst>
              <a:gd name="adj1" fmla="val 50000"/>
              <a:gd name="adj2" fmla="val 45828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186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190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194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752480" y="1828800"/>
            <a:ext cx="685800" cy="6858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2438280"/>
            <a:ext cx="990360" cy="53352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90920" y="2590920"/>
            <a:ext cx="1295280" cy="4572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 - G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3276720"/>
            <a:ext cx="1295280" cy="4572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 - G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3276720"/>
            <a:ext cx="990360" cy="53316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" dur="1" fill="hold"/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ow We Came To Use WDI/WBI – Part 2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-3:  WDI to the Resc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purchased CrossWorlds and renamed produc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ebSphere Business 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WBI). IBM postponed enhancements to TPI and EDI data-handler components.  We learned of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 outsourced its manufacturing, which required us to implement many new EDI transactions quickly – enter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d a 1-week trial to prove that we could get WDI running in our environment and have it communicate with WBI.  Mostly this involved installing the software and configuring MQSe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d another 1-week trial to expand on prior work and demonstrate functionality of WDI.  Did 1 inbound and 1 outbound EDI transa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d a 1-Week onsite training/mentoring session with WDI consult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&amp; deployed 7 new EDI transactions in 6 weeks using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DI and WBI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207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211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 rot="17983200">
            <a:off x="2251800" y="2308680"/>
            <a:ext cx="811080" cy="685800"/>
          </a:xfrm>
          <a:prstGeom prst="diamond">
            <a:avLst/>
          </a:prstGeom>
          <a:solidFill>
            <a:srgbClr val="2db6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7983200">
            <a:off x="1888200" y="1986120"/>
            <a:ext cx="811080" cy="9144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7983200">
            <a:off x="3177360" y="2561040"/>
            <a:ext cx="430200" cy="990360"/>
          </a:xfrm>
          <a:prstGeom prst="upDownArrow">
            <a:avLst>
              <a:gd name="adj1" fmla="val 50000"/>
              <a:gd name="adj2" fmla="val 45828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218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222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226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752480" y="1828800"/>
            <a:ext cx="685800" cy="6858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19520" y="2743200"/>
            <a:ext cx="990360" cy="53352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8480" y="3276720"/>
            <a:ext cx="990720" cy="53316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6" dur="1" fill="hold"/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Overvie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743200"/>
            <a:ext cx="3333600" cy="609480"/>
          </a:xfrm>
          <a:prstGeom prst="leftRightArrow">
            <a:avLst>
              <a:gd name="adj1" fmla="val 50000"/>
              <a:gd name="adj2" fmla="val 108885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mainfrm"/>
          <p:cNvSpPr/>
          <p:nvPr/>
        </p:nvSpPr>
        <p:spPr>
          <a:xfrm>
            <a:off x="1628640" y="1552680"/>
            <a:ext cx="1605240" cy="11793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mainfrm"/>
          <p:cNvSpPr/>
          <p:nvPr/>
        </p:nvSpPr>
        <p:spPr>
          <a:xfrm>
            <a:off x="1628640" y="4232160"/>
            <a:ext cx="1605240" cy="11797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89160" y="3048120"/>
            <a:ext cx="554040" cy="1145880"/>
          </a:xfrm>
          <a:prstGeom prst="upDownArrow">
            <a:avLst>
              <a:gd name="adj1" fmla="val 50000"/>
              <a:gd name="adj2" fmla="val 41173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eri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0720" y="106668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BI (CrossWorlds) Server Clu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4800" y="17524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 (IC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0040" y="449568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osito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4480" y="2743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n E4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541008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n E4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633000" y="1752480"/>
            <a:ext cx="1954800" cy="2882880"/>
            <a:chOff x="6633000" y="1752480"/>
            <a:chExt cx="1954800" cy="2882880"/>
          </a:xfrm>
        </p:grpSpPr>
        <p:sp>
          <p:nvSpPr>
            <p:cNvPr id="243" name="tower"/>
            <p:cNvSpPr/>
            <p:nvPr/>
          </p:nvSpPr>
          <p:spPr>
            <a:xfrm>
              <a:off x="7086600" y="2286000"/>
              <a:ext cx="904680" cy="18097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87520" y="175248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DI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33000" y="4267080"/>
              <a:ext cx="195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aq ProLia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– MQ Configu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2590920"/>
            <a:ext cx="3943080" cy="485640"/>
          </a:xfrm>
          <a:prstGeom prst="leftRightArrow">
            <a:avLst>
              <a:gd name="adj1" fmla="val 50000"/>
              <a:gd name="adj2" fmla="val 161635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Q S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85560" y="1143000"/>
            <a:ext cx="2575080" cy="4667400"/>
            <a:chOff x="385560" y="1143000"/>
            <a:chExt cx="2575080" cy="4667400"/>
          </a:xfrm>
        </p:grpSpPr>
        <p:sp>
          <p:nvSpPr>
            <p:cNvPr id="249" name="mainfrm"/>
            <p:cNvSpPr/>
            <p:nvPr/>
          </p:nvSpPr>
          <p:spPr>
            <a:xfrm>
              <a:off x="826920" y="1655640"/>
              <a:ext cx="1604880" cy="117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6080" y="11430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BI Server Clu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5560" y="2973240"/>
              <a:ext cx="25750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 Manager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wprod.queue.manag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mote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630840" y="990720"/>
            <a:ext cx="2035440" cy="4820040"/>
            <a:chOff x="6630840" y="990720"/>
            <a:chExt cx="2035440" cy="4820040"/>
          </a:xfrm>
        </p:grpSpPr>
        <p:sp>
          <p:nvSpPr>
            <p:cNvPr id="253" name="tower"/>
            <p:cNvSpPr/>
            <p:nvPr/>
          </p:nvSpPr>
          <p:spPr>
            <a:xfrm>
              <a:off x="7086600" y="1447920"/>
              <a:ext cx="904680" cy="1415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36480" y="99072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DI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30840" y="2973600"/>
              <a:ext cx="20354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 Manager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M_wdi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mote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Hal Render, Mark Lutze</dc:creator>
  <dc:description/>
  <dc:language>en-US</dc:language>
  <cp:lastModifiedBy>IBM_USER</cp:lastModifiedBy>
  <dcterms:modified xsi:type="dcterms:W3CDTF">2003-09-17T17:43:24Z</dcterms:modified>
  <cp:revision>944</cp:revision>
  <dc:subject/>
  <dc:title>Case Study: WDI/WBI at Quantum</dc:title>
</cp:coreProperties>
</file>